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45589"/>
        <c:axId val="19075630"/>
      </c:barChart>
      <c:catAx>
        <c:axId val="69845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75630"/>
        <c:crosses val="autoZero"/>
        <c:auto val="1"/>
        <c:lblAlgn val="ctr"/>
        <c:lblOffset val="100"/>
        <c:noMultiLvlLbl val="0"/>
      </c:catAx>
      <c:valAx>
        <c:axId val="19075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45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58B-4629-4AD8-B271-6C32A416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35E-5CA2-4852-B533-BF9DFFBD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F09-8A01-4315-B825-9177752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03D-6D60-44E6-A591-A6D8B57A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A2E-55D1-40D9-8794-C19E5D7A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B90-3955-410B-8138-CEF5E09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CE5-A40F-4D2D-BB1A-6B727F7E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8BC-EED0-4872-858E-E578C8E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C9D-C478-4236-B67C-CFF423A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E1F-4C4D-4555-9C9C-6C8C1DE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7F8-7CFB-48B0-9FC7-1EA20F3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E41-DB13-41DB-90F5-47D11B74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3D22E-0BF8-42C8-A2C6-C1F86CB31B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