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77032"/>
        <c:axId val="19856707"/>
      </c:barChart>
      <c:catAx>
        <c:axId val="88477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6707"/>
        <c:crosses val="autoZero"/>
        <c:auto val="1"/>
        <c:lblAlgn val="ctr"/>
        <c:lblOffset val="100"/>
        <c:noMultiLvlLbl val="0"/>
      </c:catAx>
      <c:valAx>
        <c:axId val="19856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77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B60-B246-4FC2-8FD9-AE27DF63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7AF-E69F-48FD-B731-E2D1D7A4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7C8-BE6A-43A6-AC69-28DFE977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671-3135-4BBC-802C-200F2B63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A87-EAF8-42E2-B146-72867D5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CD1-B9E0-4051-B6F8-78D2769D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56A-A9E5-4C65-9D4A-4EA3B834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0A9-D060-4736-B78C-06D696BC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E2A-1BEF-4082-8FC6-7535E5EF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C72-B05D-4B22-B55B-44B04604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629-3D62-4133-B37C-41C3054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89E-0C5E-4471-8047-FD9FFD5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EDCD4-2901-48DD-98D6-DF7E3DF098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