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96726"/>
        <c:axId val="35042356"/>
      </c:barChart>
      <c:catAx>
        <c:axId val="80396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42356"/>
        <c:crosses val="autoZero"/>
        <c:auto val="1"/>
        <c:lblAlgn val="ctr"/>
        <c:lblOffset val="100"/>
        <c:noMultiLvlLbl val="0"/>
      </c:catAx>
      <c:valAx>
        <c:axId val="35042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96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07B-D8EC-4D7C-B1A4-3AB5D98A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C5B-3174-4EF4-9CE1-C6B3A62E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B89-0CF9-4809-A63E-0CA99B2D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6E5-1FAC-409D-8B39-419E4D29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828-9BB4-4222-AC09-8E18A77E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AB8-5FC0-417D-830F-E7B56E1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480-49AA-4AF3-B3D6-E4DF6A6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06E-7082-432B-854E-73BEBC3B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EBA-262F-4832-85E4-F9F2E76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6B7-8871-4B10-81F4-5A5FCC4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69D-4DDE-494C-A2EB-BDDC4426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8A7-87E2-4B39-BA91-D126EB8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C8A9E-3FF2-4362-A0AC-8C7A3D0B8B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