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943424"/>
        <c:axId val="97747999"/>
      </c:barChart>
      <c:catAx>
        <c:axId val="769434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47999"/>
        <c:crosses val="autoZero"/>
        <c:auto val="1"/>
        <c:lblAlgn val="ctr"/>
        <c:lblOffset val="100"/>
        <c:noMultiLvlLbl val="0"/>
      </c:catAx>
      <c:valAx>
        <c:axId val="977479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434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B886-36A3-4F07-B26E-7C3940E6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B41D-B957-4B3D-96EF-9A24153E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2B13-526F-430B-B037-217D474F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4D03-132F-41BF-8ED5-BF789B75E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9CA4-B8C8-4D6C-91D8-F35151D0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FD6F-401E-4B19-8018-41C29273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9DA8-4DDB-4ED4-B3EE-3BB84422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882D-DE77-4983-A68D-7E3D6DC7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E795-D022-4CE5-8DDF-429FCFE7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7DB5-94BC-465B-A6F8-43A1CC98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8CE6-F4CB-4689-AB1C-C65BF587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3555-424E-417A-B738-F8C13311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3C1DF-8FA6-42C2-9F11-D5DE7731D1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