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07526"/>
        <c:axId val="38772808"/>
      </c:barChart>
      <c:catAx>
        <c:axId val="61407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2808"/>
        <c:crosses val="autoZero"/>
        <c:auto val="1"/>
        <c:lblAlgn val="ctr"/>
        <c:lblOffset val="100"/>
        <c:noMultiLvlLbl val="0"/>
      </c:catAx>
      <c:valAx>
        <c:axId val="38772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7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96C-D25E-437F-9DEA-BC2EEA39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236-8B11-43CE-9D22-F330A378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5C8-0CC1-4C5A-9588-5202F013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922-43F7-4B01-B399-3D5014E1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4AC-18CF-4327-9A12-2BF2432D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0CD-FAAE-4F8F-BC7A-501A9B9A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46B-02A3-4447-848A-478AF62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FF5-35B8-4468-B566-06D5C78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11A-C769-4072-93B7-7FCEB0AF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8F3-D774-4601-A3BD-47C434D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F6E-87E0-4228-AA99-3809A32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011-281F-4A20-9D8E-1F821516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CC618-1881-410A-BA17-3FE0A9A90C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