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79033"/>
        <c:axId val="79545855"/>
      </c:barChart>
      <c:catAx>
        <c:axId val="19979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45855"/>
        <c:crosses val="autoZero"/>
        <c:auto val="1"/>
        <c:lblAlgn val="ctr"/>
        <c:lblOffset val="100"/>
        <c:noMultiLvlLbl val="0"/>
      </c:catAx>
      <c:valAx>
        <c:axId val="79545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79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5FF-C2DF-4304-BB2E-8995E90E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D82-D9E0-4F54-BBE2-909DAD3C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294-47D6-4C4E-AE29-1F269C5A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0F0-11FE-4600-BFC9-90888CC9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EC9-D52C-46AD-99EB-19A04E54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EE3-FD0F-4331-994D-88666F7B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729-F978-4DB2-B18D-5C627749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A31-82C9-41FB-8184-210D6D1C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A7F-7F89-4369-86DC-7BF991B3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50C-9AC4-4A97-B167-1B59F758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956-D30D-4AFD-837C-9A0C2D7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141-176C-4B5C-AA8D-F4F3B84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77856-DC21-4DAA-8264-503BBFA7AA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